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png" ContentType="image/png"/>
  <Override PartName="/ppt/media/image3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gif" ContentType="image/gif"/>
  <Override PartName="/ppt/media/image14.jpeg" ContentType="image/jpeg"/>
  <Override PartName="/ppt/media/image41.jpeg" ContentType="image/jpeg"/>
  <Override PartName="/ppt/media/image1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34.jpeg" ContentType="image/jpeg"/>
  <Override PartName="/ppt/media/image5.jpeg" ContentType="image/jpeg"/>
  <Override PartName="/ppt/media/image35.png" ContentType="image/png"/>
  <Override PartName="/ppt/media/image43.jpeg" ContentType="image/jpeg"/>
  <Override PartName="/ppt/media/image33.jpeg" ContentType="image/jpeg"/>
  <Override PartName="/ppt/media/image45.png" ContentType="image/png"/>
  <Override PartName="/ppt/media/image39.png" ContentType="image/png"/>
  <Override PartName="/ppt/media/image46.gif" ContentType="image/gif"/>
  <Override PartName="/ppt/media/image38.jpeg" ContentType="image/jpeg"/>
  <Override PartName="/ppt/media/image40.jpeg" ContentType="image/jpeg"/>
  <Override PartName="/ppt/media/image44.png" ContentType="image/png"/>
  <Override PartName="/ppt/media/image47.jpeg" ContentType="image/jpeg"/>
  <Override PartName="/ppt/media/image4.png" ContentType="image/png"/>
  <Override PartName="/ppt/media/image48.jpeg" ContentType="image/jpeg"/>
  <Override PartName="/ppt/media/image49.jpeg" ContentType="image/jpeg"/>
  <Override PartName="/ppt/media/image12.png" ContentType="image/png"/>
  <Override PartName="/ppt/media/image30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36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1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1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2C46-815C-456D-8B7D-919EEEE48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6666-DEDA-4151-A177-D9EB6A5ED71B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5F46-D213-473A-84FD-0D494B706093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8F36-0D77-4F30-98D3-DE5A8B1071A7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5B73-BB9A-49B2-8947-68C8F7086762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CE70-48DE-4CB9-BA20-7EEFD68C5BAA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A43B-38AB-45C4-85BC-DFA9EDE93D77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D501-A8C7-433A-8026-664C9E51DA5D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2347-A29F-40C0-BEDF-F7AC9C5D1802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6B22-18DC-4B32-877C-2BF1BF90708D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424B-CB01-48E9-9FE8-1AC427C20AC6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1437-1F07-406E-8155-437401627A6D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879A-C2A6-4733-B4BA-13DB45A16615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9220-7BFB-462C-ADB1-9B819775220A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6A51-91BD-4C30-BB26-E6820F258A41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8FC7-E9C9-4126-A760-D82F3F883DB4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9E10-4B39-40AA-BE80-2129CFFA3A1F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42A6-C1FC-4854-BE4D-EF35585C2584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818C-6DC0-43B1-BBA9-C3953C0A4990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estimated that more than 1.6 million new cases of cancer will be diagnosed in 2015. Prostate cancer is the most common cancer among men (26%), followed by lung (14%) and colon &amp; rectum (8%) cancers. Among women, breast (29%), lung (13%), and colon &amp; rectum (8%) cancers are the most common canc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E1BE-A935-4A01-8A68-B53BA801D06C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w we will turn our attention to cancer mortality. Lung cancer is by far the leading cause of cancer death among men (28%), followed by prostate (9%) and colon &amp; rectum (8%) cancers. Among women, lung (26%), breast (15%), and colon &amp; rectum (9%) cancers are the leading causes of cancer dea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F199-A8DF-4020-951B-AC7B1F800AFA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72EC-D945-46D7-A94B-2DC90E1D9888}" type="slidenum">
              <a:rPr b="0" lang="en-GB" sz="12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3FB3-9908-42B4-A90E-8DCBC01CF440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876A-0939-4952-BBEC-B67AE2A0DE90}" type="slidenum">
              <a:rPr b="0" lang="en-GB" sz="12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A952-A276-45A1-86A8-82EF00ED2EED}" type="slidenum">
              <a:rPr b="0" lang="en-US" sz="1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: 09-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 main stages of cell division—DNA replication, mitosis, and cytokinesis—can be seen here in the context of a complete cell cycle. This cycle traditionally is divided into two main phases, interphase and mitotic (or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phase, which are in turn divided into other phases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28A7-24B6-4187-926C-CEBA971E2A76}" type="slidenum">
              <a:rPr b="0" lang="en-US" sz="1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40A3-B660-4053-9896-AEDE3F0319F1}" type="slidenum">
              <a:rPr b="0" lang="en-US" sz="1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0B60-7EFD-4100-AD68-9A41F6580953}" type="slidenum">
              <a:rPr b="0" lang="en-US" sz="1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885A-B73E-4BC5-B396-73D7A862A4B8}" type="slidenum">
              <a:rPr b="0" lang="en-US" sz="1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ECA7-529F-4D97-811A-C34A224399D9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DE93-6BF2-4C5A-9932-44F50770B0F7}" type="slidenum">
              <a:rPr b="0" lang="en-GB" sz="12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0572-0061-4CAB-BD1C-8ADAE807A833}" type="slidenum">
              <a:rPr b="0" lang="en-GB" sz="12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F4D5-34F4-439E-9A27-0E3CBBA9F053}" type="slidenum">
              <a:rPr b="0" lang="en-US" sz="1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2847-C50C-46C1-A0A1-0D6D0BB1750E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9D39-DA37-48BD-A864-E29B9B035FCE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F19A-78A9-4387-8C35-A3184589C719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2BEF-4FC6-4313-B36A-39682BCA3DF4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C7A4-35E0-42E2-8AC3-CA9193178801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9995-ED5B-461C-B889-153653E2AEBB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5A2C-86CC-41D7-BA89-77B8AEF8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20E3-52D6-4C6B-B06E-4BDC3856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DFBF-4316-45AC-9B11-BBA44D25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5B3E-2322-41DE-AA8C-C776B553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6C25-B0C5-42C0-9164-9361F63E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B175-BE75-4221-A921-A6450314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A7DD-0E15-4594-88EB-55528508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EA62-5DA2-4B9A-B84B-A9120FB8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F502-9443-4D69-B183-D3CC893B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45E9-ED02-4947-BEC0-BECE0A5D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6E6A-5770-4E56-A774-08E9A25A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C2B1-5803-4F0D-8A8D-3A71B407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67E1-9566-4183-8A99-7597808E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F4F3-064A-4081-A13C-D2655D7E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F51E-93FF-41F5-BF0D-AB8AB8A9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3E69-0122-4B79-BF83-272AA738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FB3A-D6DC-4955-B49F-C3A02B6B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1DF1-8111-4465-BFA5-3CAADBFA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276A8-45D7-4B2C-8C7D-2B217175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CF09A-F3E9-4B6D-A26B-4317471A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493AB-A5EF-48DB-B9F0-8F33EDC2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5DF20-F7AB-4F90-8736-3DDE6FA3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6AE5-0D4B-4760-BDB9-26C90832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3AAF6-128C-4283-93FB-52206A92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86FAC-5DC7-4C08-A029-F94A3CB8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BC119-D007-4BAB-8DD8-D7003E41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58B5-5CA0-41D4-9B5C-2C36D82D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469AE-2E53-4B0C-AD45-8E564790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E68E7-DD8F-4086-9EEF-06F2479A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E9C48-850B-40B3-AB52-7B20729E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97292-A24E-4CEE-951C-49FD1698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C7221-BDE6-44FE-9C45-B02B3EA9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3F048-EF9A-4577-9712-A5C7B7ED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CC70-5F4E-424C-B555-1DAFB127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97CE6-D6B1-4D5D-97D8-61C39101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87D51-DBAD-4C54-B886-4FF11CC2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0A638-F65C-469F-896A-6BBD71A1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1FFB8-717F-4382-819F-E4D19F03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3A565-459C-456A-87D7-67DBC645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71D61-12E8-4C42-9395-D5EFCE2C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9C377-685C-4DD1-A419-376653AF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B7C6E-511F-4103-805F-62D653C7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FA883-2327-4483-AFE4-F251D60C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AFE38-1498-4091-B1A3-36A39BF1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7941-12B4-4B38-95E1-6BFC3CE1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2D1BE-BF73-4DF7-8AA8-C3A0B30D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6B4EF-B9F4-4473-9935-EA6646CF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065EA-5A26-4F8A-99FB-C8FA540C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24879-02FD-401F-9FA6-51CAB644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8F2E6-F316-49F1-AB75-A291FD25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333B8-CAB6-4681-B7DA-7FB49577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6A0CB-586E-466F-9466-D97A604D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61B0C-A341-44BC-8ABB-8D81894C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FC350-709F-4AC6-872B-58008DB8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03086-2913-4C23-9101-45E961CB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EB66-AFFF-4606-A718-1AC1EBBC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B3F8A-7A8B-4D12-91C7-8072CFE2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C663-DE81-4384-BF60-262472C2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85AD-B062-4858-B75B-370613E9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D5BD-CC74-4D14-BEA5-569D6358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D5BF-991A-4324-9714-1083D6D7E0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07F9-D97A-4410-99F9-3ABFC0DC6F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1F14-9C43-494B-A5FA-3495CE0D30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6C3B-BDB2-443F-993B-52A59A5C70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76D9-05E1-4218-95EC-CBF19AF395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ighered.mheducation.com/sites/0072495855/student_view0/chapter2/animation__mitosis_and_cytokinesis.html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johnkyrk.com/mitosis.html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ellsalive.com/cell_cycle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Notes: Mitosis &amp; Cancer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Objective 9: Analyze how cells grow and reproduce in terms of interphase, mitosis, and cytokinesi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590920" y="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ETAPHASE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228600" y="685800"/>
            <a:ext cx="76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Chromosomes line up in th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middle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066680" y="5319720"/>
            <a:ext cx="449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309" name="Picture 9" descr=""/>
          <p:cNvPicPr/>
          <p:nvPr/>
        </p:nvPicPr>
        <p:blipFill>
          <a:blip r:embed="rId1"/>
          <a:srcRect l="0" t="3638" r="2961" b="12728"/>
          <a:stretch/>
        </p:blipFill>
        <p:spPr>
          <a:xfrm>
            <a:off x="0" y="2743200"/>
            <a:ext cx="4025880" cy="4114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meta"/>
          <p:cNvPicPr/>
          <p:nvPr/>
        </p:nvPicPr>
        <p:blipFill>
          <a:blip r:embed="rId2"/>
          <a:stretch/>
        </p:blipFill>
        <p:spPr>
          <a:xfrm>
            <a:off x="4408560" y="1905120"/>
            <a:ext cx="473544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362320" y="5335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NAPHASE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21080" y="1371600"/>
            <a:ext cx="746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Centrioles pull chromosomes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apart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sister chromatids separate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066680" y="5319720"/>
            <a:ext cx="449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314" name="Picture 5" descr="a-ana"/>
          <p:cNvPicPr/>
          <p:nvPr/>
        </p:nvPicPr>
        <p:blipFill>
          <a:blip r:embed="rId1"/>
          <a:stretch/>
        </p:blipFill>
        <p:spPr>
          <a:xfrm>
            <a:off x="5791320" y="35053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"/>
          <p:cNvPicPr/>
          <p:nvPr/>
        </p:nvPicPr>
        <p:blipFill>
          <a:blip r:embed="rId2"/>
          <a:srcRect l="14824" t="0" r="13186" b="3576"/>
          <a:stretch/>
        </p:blipFill>
        <p:spPr>
          <a:xfrm>
            <a:off x="0" y="2743200"/>
            <a:ext cx="2590920" cy="4114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Anaphase"/>
          <p:cNvPicPr/>
          <p:nvPr/>
        </p:nvPicPr>
        <p:blipFill>
          <a:blip r:embed="rId3"/>
          <a:srcRect l="7534" t="11905" r="7723" b="6909"/>
          <a:stretch/>
        </p:blipFill>
        <p:spPr>
          <a:xfrm>
            <a:off x="2514600" y="3276720"/>
            <a:ext cx="342900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  <a:ea typeface="MS PGothic"/>
              </a:rPr>
              <a:t>T</a:t>
            </a:r>
            <a:r>
              <a:rPr b="1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elopha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318" name="Object 10"/>
          <p:cNvGraphicFramePr/>
          <p:nvPr/>
        </p:nvGraphicFramePr>
        <p:xfrm>
          <a:off x="3657600" y="3657600"/>
          <a:ext cx="2857680" cy="34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657600"/>
                    <a:ext cx="28576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Text Box 3"/>
          <p:cNvSpPr/>
          <p:nvPr/>
        </p:nvSpPr>
        <p:spPr>
          <a:xfrm>
            <a:off x="304920" y="137160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Se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two</a:t>
            </a: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 nuclei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Nuclear membrane returns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Spindle breaks down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Chromosomes spread out into chromatin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321" name="Picture 8" descr="telophase"/>
          <p:cNvPicPr/>
          <p:nvPr/>
        </p:nvPicPr>
        <p:blipFill>
          <a:blip r:embed="rId3"/>
          <a:stretch/>
        </p:blipFill>
        <p:spPr>
          <a:xfrm>
            <a:off x="6435720" y="3962520"/>
            <a:ext cx="2708280" cy="2895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" descr=""/>
          <p:cNvPicPr/>
          <p:nvPr/>
        </p:nvPicPr>
        <p:blipFill>
          <a:blip r:embed="rId4"/>
          <a:stretch/>
        </p:blipFill>
        <p:spPr>
          <a:xfrm rot="5400000">
            <a:off x="628200" y="3409920"/>
            <a:ext cx="255276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YTO</a:t>
            </a:r>
            <a:r>
              <a:rPr b="1" lang="en-US" sz="4000" spc="-1" strike="noStrike">
                <a:solidFill>
                  <a:srgbClr val="2f2b20"/>
                </a:solidFill>
                <a:latin typeface="Times New Roman"/>
                <a:ea typeface="MS PGothic"/>
              </a:rPr>
              <a:t>KINESIS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228600" y="1447920"/>
            <a:ext cx="799452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Cyto</a:t>
            </a: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plasm splits into </a:t>
            </a:r>
            <a:r>
              <a:rPr b="0" lang="en-US" sz="3600" spc="-1" strike="noStrike">
                <a:solidFill>
                  <a:srgbClr val="675e47"/>
                </a:solidFill>
                <a:latin typeface="Times New Roman"/>
                <a:ea typeface="ＭＳ Ｐゴシック"/>
              </a:rPr>
              <a:t>two </a:t>
            </a: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cells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Usually happens with telophase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In Plants: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A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ＭＳ Ｐゴシック"/>
              </a:rPr>
              <a:t>cell plate</a:t>
            </a: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 is formed.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In Animals: 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A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ＭＳ Ｐゴシック"/>
              </a:rPr>
              <a:t>cleavage furrow </a:t>
            </a: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is formed.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325" name="Picture 1" descr=""/>
          <p:cNvPicPr/>
          <p:nvPr/>
        </p:nvPicPr>
        <p:blipFill>
          <a:blip r:embed="rId1"/>
          <a:stretch/>
        </p:blipFill>
        <p:spPr>
          <a:xfrm>
            <a:off x="5715000" y="2895480"/>
            <a:ext cx="2948040" cy="18669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6477120" y="4800600"/>
            <a:ext cx="256356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Cytokinesis in pla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328" name="Picture 7" descr="teloph"/>
          <p:cNvPicPr/>
          <p:nvPr/>
        </p:nvPicPr>
        <p:blipFill>
          <a:blip r:embed="rId1"/>
          <a:srcRect l="4331" t="0" r="4331" b="0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FG09_012"/>
          <p:cNvPicPr/>
          <p:nvPr/>
        </p:nvPicPr>
        <p:blipFill>
          <a:blip r:embed="rId2"/>
          <a:srcRect l="0" t="18099" r="0" b="33336"/>
          <a:stretch/>
        </p:blipFill>
        <p:spPr>
          <a:xfrm>
            <a:off x="228600" y="1371600"/>
            <a:ext cx="8686800" cy="3276720"/>
          </a:xfrm>
          <a:prstGeom prst="rect">
            <a:avLst/>
          </a:prstGeom>
          <a:ln w="0">
            <a:noFill/>
          </a:ln>
        </p:spPr>
      </p:pic>
      <p:sp>
        <p:nvSpPr>
          <p:cNvPr id="330" name="Line 8"/>
          <p:cNvSpPr/>
          <p:nvPr/>
        </p:nvSpPr>
        <p:spPr>
          <a:xfrm flipH="1">
            <a:off x="4419720" y="5257800"/>
            <a:ext cx="2133360" cy="380880"/>
          </a:xfrm>
          <a:prstGeom prst="line">
            <a:avLst/>
          </a:prstGeom>
          <a:ln w="25560">
            <a:solidFill>
              <a:srgbClr val="849a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6248520" y="4952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cell plate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74880" y="620640"/>
            <a:ext cx="734040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Cytokinesis in Animal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333" name="Picture 5" descr="daughtercells"/>
          <p:cNvPicPr/>
          <p:nvPr/>
        </p:nvPicPr>
        <p:blipFill>
          <a:blip r:embed="rId1"/>
          <a:stretch/>
        </p:blipFill>
        <p:spPr>
          <a:xfrm>
            <a:off x="2286000" y="1676520"/>
            <a:ext cx="4807080" cy="4713120"/>
          </a:xfrm>
          <a:prstGeom prst="rect">
            <a:avLst/>
          </a:prstGeom>
          <a:ln w="0">
            <a:noFill/>
          </a:ln>
        </p:spPr>
      </p:pic>
      <p:sp>
        <p:nvSpPr>
          <p:cNvPr id="334" name="Line 6"/>
          <p:cNvSpPr/>
          <p:nvPr/>
        </p:nvSpPr>
        <p:spPr>
          <a:xfrm flipH="1">
            <a:off x="6019560" y="2819520"/>
            <a:ext cx="1523880" cy="533160"/>
          </a:xfrm>
          <a:prstGeom prst="line">
            <a:avLst/>
          </a:prstGeom>
          <a:ln w="25560">
            <a:solidFill>
              <a:srgbClr val="849a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7696080" y="23623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Cleavage furrow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"/>
          <p:cNvPicPr/>
          <p:nvPr/>
        </p:nvPicPr>
        <p:blipFill>
          <a:blip r:embed="rId1"/>
          <a:srcRect l="931" t="6973" r="65593" b="58306"/>
          <a:stretch/>
        </p:blipFill>
        <p:spPr>
          <a:xfrm>
            <a:off x="3505320" y="457200"/>
            <a:ext cx="2743200" cy="2133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"/>
          <p:cNvPicPr/>
          <p:nvPr/>
        </p:nvPicPr>
        <p:blipFill>
          <a:blip r:embed="rId2"/>
          <a:srcRect l="33968" t="7439" r="33486" b="57839"/>
          <a:stretch/>
        </p:blipFill>
        <p:spPr>
          <a:xfrm>
            <a:off x="6477120" y="1676520"/>
            <a:ext cx="2666880" cy="2133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rcRect l="931" t="44643" r="65593" b="19402"/>
          <a:stretch/>
        </p:blipFill>
        <p:spPr>
          <a:xfrm>
            <a:off x="5257800" y="441972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"/>
          <p:cNvPicPr/>
          <p:nvPr/>
        </p:nvPicPr>
        <p:blipFill>
          <a:blip r:embed="rId4"/>
          <a:srcRect l="33486" t="45417" r="33968" b="19868"/>
          <a:stretch/>
        </p:blipFill>
        <p:spPr>
          <a:xfrm>
            <a:off x="1523880" y="4495680"/>
            <a:ext cx="2667240" cy="2133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"/>
          <p:cNvPicPr/>
          <p:nvPr/>
        </p:nvPicPr>
        <p:blipFill>
          <a:blip r:embed="rId5"/>
          <a:srcRect l="66037" t="45417" r="1413" b="2501"/>
          <a:stretch/>
        </p:blipFill>
        <p:spPr>
          <a:xfrm>
            <a:off x="152280" y="1066680"/>
            <a:ext cx="2667240" cy="3200400"/>
          </a:xfrm>
          <a:prstGeom prst="rect">
            <a:avLst/>
          </a:prstGeom>
          <a:ln w="0">
            <a:noFill/>
          </a:ln>
        </p:spPr>
      </p:pic>
      <p:cxnSp>
        <p:nvCxnSpPr>
          <p:cNvPr id="341" name="AutoShape 10"/>
          <p:cNvCxnSpPr/>
          <p:nvPr/>
        </p:nvCxnSpPr>
        <p:spPr>
          <a:xfrm rot="5400000">
            <a:off x="8114760" y="4076640"/>
            <a:ext cx="762480" cy="534240"/>
          </a:xfrm>
          <a:prstGeom prst="curvedConnector5">
            <a:avLst>
              <a:gd name="adj1" fmla="val 92867"/>
              <a:gd name="adj2" fmla="val 49966"/>
              <a:gd name="adj3" fmla="val 92867"/>
            </a:avLst>
          </a:prstGeom>
          <a:ln w="127080">
            <a:solidFill>
              <a:srgbClr val="2f2b20"/>
            </a:solidFill>
            <a:miter/>
            <a:tailEnd len="med" type="triangle" w="med"/>
          </a:ln>
        </p:spPr>
      </p:cxnSp>
      <p:cxnSp>
        <p:nvCxnSpPr>
          <p:cNvPr id="342" name="AutoShape 11"/>
          <p:cNvCxnSpPr/>
          <p:nvPr/>
        </p:nvCxnSpPr>
        <p:spPr>
          <a:xfrm>
            <a:off x="6629040" y="914040"/>
            <a:ext cx="762840" cy="686520"/>
          </a:xfrm>
          <a:prstGeom prst="curvedConnector5">
            <a:avLst>
              <a:gd name="adj1" fmla="val 81869"/>
              <a:gd name="adj2" fmla="val 50000"/>
              <a:gd name="adj3" fmla="val 81869"/>
            </a:avLst>
          </a:prstGeom>
          <a:ln w="127080">
            <a:solidFill>
              <a:srgbClr val="2f2b20"/>
            </a:solidFill>
            <a:miter/>
            <a:tailEnd len="med" type="triangle" w="med"/>
          </a:ln>
        </p:spPr>
      </p:cxnSp>
      <p:cxnSp>
        <p:nvCxnSpPr>
          <p:cNvPr id="343" name="AutoShape 13"/>
          <p:cNvCxnSpPr/>
          <p:nvPr/>
        </p:nvCxnSpPr>
        <p:spPr>
          <a:xfrm flipV="1" rot="16200000">
            <a:off x="609120" y="4571280"/>
            <a:ext cx="991440" cy="381600"/>
          </a:xfrm>
          <a:prstGeom prst="curvedConnector5">
            <a:avLst>
              <a:gd name="adj1" fmla="val -290"/>
              <a:gd name="adj2" fmla="val 49952"/>
              <a:gd name="adj3" fmla="val -290"/>
            </a:avLst>
          </a:prstGeom>
          <a:ln w="127080">
            <a:solidFill>
              <a:srgbClr val="2f2b20"/>
            </a:solidFill>
            <a:miter/>
            <a:tailEnd len="med" type="triangle" w="med"/>
          </a:ln>
        </p:spPr>
      </p:cxnSp>
      <p:cxnSp>
        <p:nvCxnSpPr>
          <p:cNvPr id="344" name="AutoShape 14"/>
          <p:cNvCxnSpPr/>
          <p:nvPr/>
        </p:nvCxnSpPr>
        <p:spPr>
          <a:xfrm flipH="1" flipV="1">
            <a:off x="4342680" y="5180760"/>
            <a:ext cx="762840" cy="1080"/>
          </a:xfrm>
          <a:prstGeom prst="straightConnector1">
            <a:avLst/>
          </a:prstGeom>
          <a:ln w="127080">
            <a:solidFill>
              <a:srgbClr val="2f2b20"/>
            </a:solidFill>
            <a:miter/>
            <a:tailEnd len="med" type="triangle" w="med"/>
          </a:ln>
        </p:spPr>
      </p:cxnSp>
      <p:cxnSp>
        <p:nvCxnSpPr>
          <p:cNvPr id="345" name="AutoShape 16"/>
          <p:cNvCxnSpPr/>
          <p:nvPr/>
        </p:nvCxnSpPr>
        <p:spPr>
          <a:xfrm flipV="1">
            <a:off x="2361960" y="838080"/>
            <a:ext cx="991080" cy="76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7080">
            <a:solidFill>
              <a:srgbClr val="2f2b20"/>
            </a:solidFill>
            <a:miter/>
            <a:tailEnd len="med" type="triangle" w="med"/>
          </a:ln>
        </p:spPr>
      </p:cxn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2819520"/>
            <a:ext cx="23623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The Cell Cycl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347" name="Picture 5" descr="mitosis movie"/>
          <p:cNvPicPr/>
          <p:nvPr/>
        </p:nvPicPr>
        <p:blipFill>
          <a:blip r:embed="rId1"/>
          <a:stretch/>
        </p:blipFill>
        <p:spPr>
          <a:xfrm>
            <a:off x="2743200" y="152280"/>
            <a:ext cx="6284880" cy="6705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Cell Cycle Revie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http://highered.mheducation.com/sites/0072495855/student_view0/chapter2/animation__mitosis_and_cytokinesis.htm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What Phases Can You See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351" name="Picture 4" descr="allium1"/>
          <p:cNvPicPr/>
          <p:nvPr/>
        </p:nvPicPr>
        <p:blipFill>
          <a:blip r:embed="rId1"/>
          <a:srcRect l="0" t="0" r="0" b="32521"/>
          <a:stretch/>
        </p:blipFill>
        <p:spPr>
          <a:xfrm>
            <a:off x="380880" y="1828800"/>
            <a:ext cx="845820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4360" y="620640"/>
            <a:ext cx="734220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75e47"/>
                </a:solidFill>
                <a:latin typeface="Times New Roman"/>
                <a:ea typeface="MS PGothic"/>
              </a:rPr>
              <a:t>The Cell Cycle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5029200" cy="4838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onion root tip cells"/>
          <p:cNvPicPr/>
          <p:nvPr/>
        </p:nvPicPr>
        <p:blipFill>
          <a:blip r:embed="rId1"/>
          <a:srcRect l="9484" t="13206" r="3449" b="7536"/>
          <a:stretch/>
        </p:blipFill>
        <p:spPr>
          <a:xfrm>
            <a:off x="990720" y="1752480"/>
            <a:ext cx="7696080" cy="45720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152280" y="9144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49a0a"/>
                </a:solidFill>
                <a:latin typeface="Showcard Gothic"/>
                <a:ea typeface="ＭＳ Ｐゴシック"/>
              </a:rPr>
              <a:t>Find the stages of mitosis in these </a:t>
            </a:r>
            <a:r>
              <a:rPr b="1" lang="en-US" sz="2800" spc="-1" strike="noStrike" u="sng">
                <a:solidFill>
                  <a:srgbClr val="849a0a"/>
                </a:solidFill>
                <a:uFillTx/>
                <a:latin typeface="Showcard Gothic"/>
                <a:ea typeface="ＭＳ Ｐゴシック"/>
              </a:rPr>
              <a:t>onion</a:t>
            </a:r>
            <a:r>
              <a:rPr b="1" lang="en-US" sz="2800" spc="-1" strike="noStrike">
                <a:solidFill>
                  <a:srgbClr val="849a0a"/>
                </a:solidFill>
                <a:latin typeface="Showcard Gothic"/>
                <a:ea typeface="ＭＳ Ｐゴシック"/>
              </a:rPr>
              <a:t> cells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1219320" y="4266720"/>
            <a:ext cx="685800" cy="228600"/>
          </a:xfrm>
          <a:prstGeom prst="line">
            <a:avLst/>
          </a:prstGeom>
          <a:ln w="127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1601280" y="2738880"/>
            <a:ext cx="302760" cy="849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56" name="Line 6"/>
          <p:cNvSpPr/>
          <p:nvPr/>
        </p:nvSpPr>
        <p:spPr>
          <a:xfrm>
            <a:off x="4719600" y="2239920"/>
            <a:ext cx="313920" cy="158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57" name="Line 9"/>
          <p:cNvSpPr/>
          <p:nvPr/>
        </p:nvSpPr>
        <p:spPr>
          <a:xfrm flipV="1">
            <a:off x="3048120" y="5943600"/>
            <a:ext cx="304560" cy="7632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 flipV="1">
            <a:off x="5867280" y="1980720"/>
            <a:ext cx="685800" cy="228600"/>
          </a:xfrm>
          <a:prstGeom prst="line">
            <a:avLst/>
          </a:prstGeom>
          <a:ln w="127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V="1">
            <a:off x="7162920" y="2666520"/>
            <a:ext cx="685800" cy="22860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60" name="Line 22"/>
          <p:cNvSpPr/>
          <p:nvPr/>
        </p:nvSpPr>
        <p:spPr>
          <a:xfrm flipV="1">
            <a:off x="2743200" y="5943240"/>
            <a:ext cx="685800" cy="228600"/>
          </a:xfrm>
          <a:prstGeom prst="line">
            <a:avLst/>
          </a:prstGeom>
          <a:ln w="127080">
            <a:solidFill>
              <a:srgbClr val="849a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5105520" y="4495680"/>
            <a:ext cx="838080" cy="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62" name="Line 24"/>
          <p:cNvSpPr/>
          <p:nvPr/>
        </p:nvSpPr>
        <p:spPr>
          <a:xfrm>
            <a:off x="2590920" y="3505320"/>
            <a:ext cx="68580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4343400" y="2286000"/>
            <a:ext cx="762120" cy="0"/>
          </a:xfrm>
          <a:prstGeom prst="line">
            <a:avLst/>
          </a:prstGeom>
          <a:ln w="127080">
            <a:solidFill>
              <a:srgbClr val="a9a5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1219320" y="2743200"/>
            <a:ext cx="761760" cy="0"/>
          </a:xfrm>
          <a:prstGeom prst="line">
            <a:avLst/>
          </a:prstGeom>
          <a:ln w="1270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65" name="Line 27"/>
          <p:cNvSpPr/>
          <p:nvPr/>
        </p:nvSpPr>
        <p:spPr>
          <a:xfrm flipV="1">
            <a:off x="7696080" y="3657240"/>
            <a:ext cx="685800" cy="228600"/>
          </a:xfrm>
          <a:prstGeom prst="line">
            <a:avLst/>
          </a:prstGeom>
          <a:ln w="127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Anim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646520" y="1981080"/>
            <a:ext cx="3811680" cy="4114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itosis2d anim"/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8" descr="mitosis anim 2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d25814"/>
                </a:solidFill>
                <a:uFillTx/>
                <a:latin typeface="Cambria"/>
                <a:hlinkClick r:id="rId1"/>
              </a:rPr>
              <a:t>Cell Cycle-click here!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Binary Fission</a:t>
            </a:r>
            <a:endParaRPr b="0" lang="en-US" sz="8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8e8d8c"/>
                </a:solidFill>
                <a:latin typeface="Calibri"/>
              </a:rPr>
              <a:t>Prokaryotic cells</a:t>
            </a:r>
            <a:endParaRPr b="0" lang="en-US" sz="6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429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Binary Fiss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375" name="Picture 7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7058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Times New Roman"/>
              <a:ea typeface="MS PGothic"/>
            </a:endParaRPr>
          </a:p>
        </p:txBody>
      </p:sp>
      <p:pic>
        <p:nvPicPr>
          <p:cNvPr id="377" name="Picture 4" descr="6909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4652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Times New Roman"/>
              <a:ea typeface="MS PGothic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11680" cy="41148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4652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382" name="Picture 5" descr="96444c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7964640" cy="19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Cancer: uncontrolled cell division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22160" y="3852720"/>
            <a:ext cx="6135840" cy="163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https://www.youtube.com/watch?v=xZ0aksbiiXw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cycle"/>
          <p:cNvPicPr/>
          <p:nvPr/>
        </p:nvPicPr>
        <p:blipFill>
          <a:blip r:embed="rId1"/>
          <a:stretch/>
        </p:blipFill>
        <p:spPr>
          <a:xfrm>
            <a:off x="1523880" y="1219320"/>
            <a:ext cx="5943600" cy="52941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The Cell Cycl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Times New Roman"/>
              </a:rPr>
              <a:t>Cancer Fast Fact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0772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Cancer is one of the most common diseases in the developed world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2120" indent="-20772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1 in 4 deaths are due to canc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2120" indent="-20772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1 in 17 deaths are due to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lung canc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2120" indent="-20772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Lung cancer is the most common cancer in m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2120" indent="-20772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Breast cancer is the most common cancer in wom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2120" indent="-20772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There are over 200 different forms of canc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75e47"/>
                </a:solidFill>
                <a:latin typeface="Times New Roman"/>
                <a:ea typeface="MS PGothic"/>
              </a:rPr>
              <a:t>What is Cancer?</a:t>
            </a:r>
            <a:endParaRPr b="0" lang="en-US" sz="5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Cancer is </a:t>
            </a:r>
            <a:r>
              <a:rPr b="0" lang="en-US" sz="2800" spc="-1" strike="noStrike" u="sng">
                <a:solidFill>
                  <a:srgbClr val="2f2b20"/>
                </a:solidFill>
                <a:uFillTx/>
                <a:latin typeface="Times New Roman"/>
                <a:ea typeface="MS PGothic"/>
              </a:rPr>
              <a:t>uncontrolled cell divisio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The cells don’t stop divid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Like a car with no brakes!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75e47"/>
                </a:solidFill>
                <a:latin typeface="Times New Roman"/>
                <a:ea typeface="MS PGothic"/>
              </a:rPr>
              <a:t>Cyclins</a:t>
            </a:r>
            <a:r>
              <a:rPr b="0" i="1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are proteins that</a:t>
            </a:r>
            <a:r>
              <a:rPr b="0" i="1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put the brakes on the cell cyc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Cancer can spread to new places, which is called 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metastasi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Cancer cells form </a:t>
            </a:r>
            <a:r>
              <a:rPr b="1" i="1" lang="en-US" sz="2800" spc="-1" strike="noStrike">
                <a:solidFill>
                  <a:srgbClr val="675e47"/>
                </a:solidFill>
                <a:latin typeface="Times New Roman"/>
                <a:ea typeface="MS PGothic"/>
              </a:rPr>
              <a:t>tumors</a:t>
            </a:r>
            <a:r>
              <a:rPr b="0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: a mass of cells that have divided uncontrollably and can damage surrounding tissu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391" name="Picture 4" descr="Cancer_cell_division"/>
          <p:cNvPicPr/>
          <p:nvPr/>
        </p:nvPicPr>
        <p:blipFill>
          <a:blip r:embed="rId1"/>
          <a:srcRect l="3921" t="5887" r="3921" b="4706"/>
          <a:stretch/>
        </p:blipFill>
        <p:spPr>
          <a:xfrm>
            <a:off x="5562720" y="1066680"/>
            <a:ext cx="3581280" cy="5791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75e47"/>
                </a:solidFill>
                <a:latin typeface="Times New Roman"/>
              </a:rPr>
              <a:t>What causes cancer?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Cancer arises from the 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mutation</a:t>
            </a: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 of a normal gen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Mutated genes that cause cancer are called 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oncogenes</a:t>
            </a: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It is thought that several mutations need to occur to give rise to canc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Cells that are old or not functioning properly normally self destruct and are replaced by new cells. (Arrested in G0 or programmed to die=apoptosi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However, cancerous cells do not self destruct and continue to divide rapidly producing millions of new cancerous cell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A factor which brings about a mutation is called a 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mutage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Any agent that causes cancer is called a 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carcinogen</a:t>
            </a: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 and is described as 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carcinogenic</a:t>
            </a: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So some mutagens are carcinogenic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-1440" y="-7920"/>
            <a:ext cx="9148680" cy="687384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3"/>
          <p:cNvSpPr/>
          <p:nvPr/>
        </p:nvSpPr>
        <p:spPr>
          <a:xfrm>
            <a:off x="3344760" y="519120"/>
            <a:ext cx="890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9c271e"/>
                </a:solidFill>
                <a:latin typeface="Arial Black"/>
                <a:ea typeface="ＭＳ Ｐゴシック"/>
              </a:rPr>
              <a:t>DN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511440" y="1054080"/>
            <a:ext cx="890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9c271e"/>
                </a:solidFill>
                <a:latin typeface="Arial Black"/>
                <a:ea typeface="ＭＳ Ｐゴシック"/>
              </a:rPr>
              <a:t>DN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97" name="Oval 5"/>
          <p:cNvSpPr/>
          <p:nvPr/>
        </p:nvSpPr>
        <p:spPr>
          <a:xfrm>
            <a:off x="4659480" y="219240"/>
            <a:ext cx="411120" cy="411120"/>
          </a:xfrm>
          <a:prstGeom prst="ellipse">
            <a:avLst/>
          </a:prstGeom>
          <a:noFill/>
          <a:ln cap="rnd" w="28440">
            <a:solidFill>
              <a:srgbClr val="9c271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98" name="Oval 6"/>
          <p:cNvSpPr/>
          <p:nvPr/>
        </p:nvSpPr>
        <p:spPr>
          <a:xfrm>
            <a:off x="4672080" y="973080"/>
            <a:ext cx="411120" cy="411120"/>
          </a:xfrm>
          <a:prstGeom prst="ellipse">
            <a:avLst/>
          </a:prstGeom>
          <a:noFill/>
          <a:ln cap="rnd" w="28440">
            <a:solidFill>
              <a:srgbClr val="9c271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99" name="Oval 7"/>
          <p:cNvSpPr/>
          <p:nvPr/>
        </p:nvSpPr>
        <p:spPr>
          <a:xfrm>
            <a:off x="1906560" y="1787400"/>
            <a:ext cx="534960" cy="519120"/>
          </a:xfrm>
          <a:prstGeom prst="ellipse">
            <a:avLst/>
          </a:prstGeom>
          <a:noFill/>
          <a:ln cap="rnd" w="28440">
            <a:solidFill>
              <a:srgbClr val="9c271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0" name="Oval 8"/>
          <p:cNvSpPr/>
          <p:nvPr/>
        </p:nvSpPr>
        <p:spPr>
          <a:xfrm>
            <a:off x="2274840" y="5557680"/>
            <a:ext cx="534960" cy="517680"/>
          </a:xfrm>
          <a:prstGeom prst="ellipse">
            <a:avLst/>
          </a:prstGeom>
          <a:noFill/>
          <a:ln cap="rnd" w="28440">
            <a:solidFill>
              <a:srgbClr val="9c271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1" name="Oval 9"/>
          <p:cNvSpPr/>
          <p:nvPr/>
        </p:nvSpPr>
        <p:spPr>
          <a:xfrm>
            <a:off x="6770520" y="5376960"/>
            <a:ext cx="411480" cy="412560"/>
          </a:xfrm>
          <a:prstGeom prst="ellipse">
            <a:avLst/>
          </a:prstGeom>
          <a:noFill/>
          <a:ln cap="rnd" w="28440">
            <a:solidFill>
              <a:srgbClr val="9c271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4565520" y="219240"/>
            <a:ext cx="8906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9c271e"/>
                </a:solidFill>
                <a:latin typeface="Arial Black"/>
                <a:ea typeface="ＭＳ Ｐゴシック"/>
              </a:rPr>
              <a:t>DNA</a:t>
            </a:r>
            <a:endParaRPr b="0" lang="en-US" sz="15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4578480" y="1003320"/>
            <a:ext cx="8902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9c271e"/>
                </a:solidFill>
                <a:latin typeface="Arial Black"/>
                <a:ea typeface="ＭＳ Ｐゴシック"/>
              </a:rPr>
              <a:t>DNA</a:t>
            </a:r>
            <a:endParaRPr b="0" lang="en-US" sz="15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1849320" y="1757520"/>
            <a:ext cx="8924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9c271e"/>
                </a:solidFill>
                <a:latin typeface="Arial Black"/>
                <a:ea typeface="ＭＳ Ｐゴシック"/>
              </a:rPr>
              <a:t>DN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1859040" y="1925640"/>
            <a:ext cx="890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9c271e"/>
                </a:solidFill>
                <a:latin typeface="Arial Black"/>
                <a:ea typeface="ＭＳ Ｐゴシック"/>
              </a:rPr>
              <a:t>DN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209680" y="5540400"/>
            <a:ext cx="890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9c271e"/>
                </a:solidFill>
                <a:latin typeface="Arial Black"/>
                <a:ea typeface="ＭＳ Ｐゴシック"/>
              </a:rPr>
              <a:t>DN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219400" y="5707080"/>
            <a:ext cx="890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9c271e"/>
                </a:solidFill>
                <a:latin typeface="Arial Black"/>
                <a:ea typeface="ＭＳ Ｐゴシック"/>
              </a:rPr>
              <a:t>DN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6676920" y="5394240"/>
            <a:ext cx="8906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9c271e"/>
                </a:solidFill>
                <a:latin typeface="Arial Black"/>
                <a:ea typeface="ＭＳ Ｐゴシック"/>
              </a:rPr>
              <a:t>DNA</a:t>
            </a:r>
            <a:endParaRPr b="0" lang="en-US" sz="15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9" name="Freeform 17"/>
          <p:cNvSpPr/>
          <p:nvPr/>
        </p:nvSpPr>
        <p:spPr>
          <a:xfrm>
            <a:off x="1541520" y="2744640"/>
            <a:ext cx="377640" cy="2743200"/>
          </a:xfrm>
          <a:custGeom>
            <a:avLst/>
            <a:gdLst>
              <a:gd name="textAreaLeft" fmla="*/ 0 w 377640"/>
              <a:gd name="textAreaRight" fmla="*/ 378000 w 37764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64" h="1920">
                <a:moveTo>
                  <a:pt x="264" y="1920"/>
                </a:moveTo>
                <a:cubicBezTo>
                  <a:pt x="187" y="1735"/>
                  <a:pt x="111" y="1551"/>
                  <a:pt x="72" y="1344"/>
                </a:cubicBezTo>
                <a:cubicBezTo>
                  <a:pt x="32" y="1136"/>
                  <a:pt x="0" y="895"/>
                  <a:pt x="24" y="672"/>
                </a:cubicBezTo>
                <a:cubicBezTo>
                  <a:pt x="47" y="448"/>
                  <a:pt x="131" y="224"/>
                  <a:pt x="216" y="0"/>
                </a:cubicBezTo>
              </a:path>
            </a:pathLst>
          </a:custGeom>
          <a:noFill/>
          <a:ln w="28440">
            <a:solidFill>
              <a:srgbClr val="2f2b2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0" name="AutoShape 18"/>
          <p:cNvSpPr/>
          <p:nvPr/>
        </p:nvSpPr>
        <p:spPr>
          <a:xfrm rot="1110600">
            <a:off x="1743120" y="2679840"/>
            <a:ext cx="136440" cy="274320"/>
          </a:xfrm>
          <a:prstGeom prst="triangle">
            <a:avLst>
              <a:gd name="adj" fmla="val 50000"/>
            </a:avLst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1" name="Freeform 19"/>
          <p:cNvSpPr/>
          <p:nvPr/>
        </p:nvSpPr>
        <p:spPr>
          <a:xfrm>
            <a:off x="5276880" y="960480"/>
            <a:ext cx="2489040" cy="4116240"/>
          </a:xfrm>
          <a:custGeom>
            <a:avLst/>
            <a:gdLst/>
            <a:ahLst/>
            <a:rect l="l" t="t" r="r" b="b"/>
            <a:pathLst>
              <a:path w="1696" h="2832">
                <a:moveTo>
                  <a:pt x="0" y="0"/>
                </a:moveTo>
                <a:cubicBezTo>
                  <a:pt x="416" y="152"/>
                  <a:pt x="832" y="304"/>
                  <a:pt x="1104" y="576"/>
                </a:cubicBezTo>
                <a:cubicBezTo>
                  <a:pt x="1376" y="848"/>
                  <a:pt x="1568" y="1256"/>
                  <a:pt x="1632" y="1632"/>
                </a:cubicBezTo>
                <a:cubicBezTo>
                  <a:pt x="1696" y="2008"/>
                  <a:pt x="1592" y="2420"/>
                  <a:pt x="1488" y="2832"/>
                </a:cubicBezTo>
              </a:path>
            </a:pathLst>
          </a:custGeom>
          <a:noFill/>
          <a:ln w="28440">
            <a:solidFill>
              <a:srgbClr val="2f2b2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2" name="AutoShape 20"/>
          <p:cNvSpPr/>
          <p:nvPr/>
        </p:nvSpPr>
        <p:spPr>
          <a:xfrm rot="12520800">
            <a:off x="7362720" y="4939560"/>
            <a:ext cx="136800" cy="274680"/>
          </a:xfrm>
          <a:prstGeom prst="triangle">
            <a:avLst>
              <a:gd name="adj" fmla="val 50000"/>
            </a:avLst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3" name="Text Box 21"/>
          <p:cNvSpPr/>
          <p:nvPr/>
        </p:nvSpPr>
        <p:spPr>
          <a:xfrm>
            <a:off x="4856040" y="3216240"/>
            <a:ext cx="15084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G</a:t>
            </a:r>
            <a:r>
              <a:rPr b="0" lang="en-US" sz="1600" spc="-1" strike="noStrike" baseline="-25000">
                <a:solidFill>
                  <a:srgbClr val="2f2b20"/>
                </a:solidFill>
                <a:latin typeface="Arial Black"/>
                <a:ea typeface="ＭＳ Ｐゴシック"/>
              </a:rPr>
              <a:t>1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Cell growth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3627360" y="4660920"/>
            <a:ext cx="22622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S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DNA replication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5" name="Text Box 23"/>
          <p:cNvSpPr/>
          <p:nvPr/>
        </p:nvSpPr>
        <p:spPr>
          <a:xfrm>
            <a:off x="2502000" y="3430440"/>
            <a:ext cx="2260440" cy="7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G</a:t>
            </a:r>
            <a:r>
              <a:rPr b="0" lang="en-US" sz="1600" spc="-1" strike="noStrike" baseline="-25000">
                <a:solidFill>
                  <a:srgbClr val="2f2b20"/>
                </a:solidFill>
                <a:latin typeface="Arial Black"/>
                <a:ea typeface="ＭＳ Ｐゴシック"/>
              </a:rPr>
              <a:t>2</a:t>
            </a: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                     Cell growth preparation for division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6" name="Text Box 24"/>
          <p:cNvSpPr/>
          <p:nvPr/>
        </p:nvSpPr>
        <p:spPr>
          <a:xfrm rot="3148800">
            <a:off x="3283920" y="2774160"/>
            <a:ext cx="15098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Mitosis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7" name="Text Box 25"/>
          <p:cNvSpPr/>
          <p:nvPr/>
        </p:nvSpPr>
        <p:spPr>
          <a:xfrm rot="5016600">
            <a:off x="3686040" y="2632320"/>
            <a:ext cx="1784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Cytokinesis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04840" y="334800"/>
            <a:ext cx="26733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Mitotic Phase (M)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508040" y="685800"/>
            <a:ext cx="1986120" cy="1235160"/>
          </a:xfrm>
          <a:prstGeom prst="line">
            <a:avLst/>
          </a:prstGeom>
          <a:ln w="284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204840" y="4035600"/>
            <a:ext cx="1714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Interphase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21" name="Line 29"/>
          <p:cNvSpPr/>
          <p:nvPr/>
        </p:nvSpPr>
        <p:spPr>
          <a:xfrm>
            <a:off x="1533600" y="4254480"/>
            <a:ext cx="890640" cy="0"/>
          </a:xfrm>
          <a:prstGeom prst="line">
            <a:avLst/>
          </a:prstGeom>
          <a:ln w="284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204840" y="6299280"/>
            <a:ext cx="1714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Interphase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23" name="Line 31"/>
          <p:cNvSpPr/>
          <p:nvPr/>
        </p:nvSpPr>
        <p:spPr>
          <a:xfrm>
            <a:off x="1576440" y="6518160"/>
            <a:ext cx="1233360" cy="0"/>
          </a:xfrm>
          <a:prstGeom prst="line">
            <a:avLst/>
          </a:prstGeom>
          <a:ln w="284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24" name="Line 32"/>
          <p:cNvSpPr/>
          <p:nvPr/>
        </p:nvSpPr>
        <p:spPr>
          <a:xfrm flipV="1">
            <a:off x="2809800" y="5900400"/>
            <a:ext cx="754200" cy="617400"/>
          </a:xfrm>
          <a:prstGeom prst="line">
            <a:avLst/>
          </a:prstGeom>
          <a:ln w="284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25" name="Text Box 33"/>
          <p:cNvSpPr/>
          <p:nvPr/>
        </p:nvSpPr>
        <p:spPr>
          <a:xfrm>
            <a:off x="7264440" y="1363680"/>
            <a:ext cx="1712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Interphase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26" name="Line 34"/>
          <p:cNvSpPr/>
          <p:nvPr/>
        </p:nvSpPr>
        <p:spPr>
          <a:xfrm flipH="1">
            <a:off x="6578280" y="1714680"/>
            <a:ext cx="1165320" cy="961920"/>
          </a:xfrm>
          <a:prstGeom prst="line">
            <a:avLst/>
          </a:prstGeom>
          <a:ln w="284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61048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Cancer cells do not respond to the proteins that regulate the cell cycl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Proteins within the cell control the cell cycl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Georgia"/>
              </a:rPr>
              <a:t>Signals affecting critical checkpoints determine whether the cell will divide  (cyclins, kinas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29" name="Picture 5" descr=""/>
          <p:cNvPicPr/>
          <p:nvPr/>
        </p:nvPicPr>
        <p:blipFill>
          <a:blip r:embed="rId1"/>
          <a:srcRect l="0" t="0" r="0" b="11742"/>
          <a:stretch/>
        </p:blipFill>
        <p:spPr>
          <a:xfrm>
            <a:off x="2660760" y="3581280"/>
            <a:ext cx="4025880" cy="270216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6"/>
          <p:cNvSpPr/>
          <p:nvPr/>
        </p:nvSpPr>
        <p:spPr>
          <a:xfrm>
            <a:off x="2286000" y="3581280"/>
            <a:ext cx="1459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G</a:t>
            </a:r>
            <a:r>
              <a:rPr b="1" lang="en-US" sz="1400" spc="-1" strike="noStrike" baseline="-25000">
                <a:solidFill>
                  <a:srgbClr val="2f2b20"/>
                </a:solidFill>
                <a:latin typeface="Arial"/>
                <a:ea typeface="ＭＳ Ｐゴシック"/>
              </a:rPr>
              <a:t>1</a:t>
            </a:r>
            <a:r>
              <a:rPr b="1" lang="en-US" sz="14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 checkpoint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31" name="Line 7"/>
          <p:cNvSpPr/>
          <p:nvPr/>
        </p:nvSpPr>
        <p:spPr>
          <a:xfrm flipH="1" flipV="1">
            <a:off x="3745080" y="3715920"/>
            <a:ext cx="271440" cy="136440"/>
          </a:xfrm>
          <a:prstGeom prst="line">
            <a:avLst/>
          </a:prstGeom>
          <a:ln w="158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2209680" y="6156360"/>
            <a:ext cx="1535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M checkpoint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4038480" y="6224760"/>
            <a:ext cx="151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G</a:t>
            </a:r>
            <a:r>
              <a:rPr b="1" lang="en-US" sz="1400" spc="-1" strike="noStrike" baseline="-25000">
                <a:solidFill>
                  <a:srgbClr val="2f2b20"/>
                </a:solidFill>
                <a:latin typeface="Arial"/>
                <a:ea typeface="ＭＳ Ｐゴシック"/>
              </a:rPr>
              <a:t>2</a:t>
            </a:r>
            <a:r>
              <a:rPr b="1" lang="en-US" sz="14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 checkpoint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34" name="Line 10"/>
          <p:cNvSpPr/>
          <p:nvPr/>
        </p:nvSpPr>
        <p:spPr>
          <a:xfrm flipH="1">
            <a:off x="3472920" y="5952960"/>
            <a:ext cx="203400" cy="203400"/>
          </a:xfrm>
          <a:prstGeom prst="line">
            <a:avLst/>
          </a:prstGeom>
          <a:ln w="158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35" name="Line 11"/>
          <p:cNvSpPr/>
          <p:nvPr/>
        </p:nvSpPr>
        <p:spPr>
          <a:xfrm>
            <a:off x="4016520" y="6087960"/>
            <a:ext cx="66600" cy="203400"/>
          </a:xfrm>
          <a:prstGeom prst="line">
            <a:avLst/>
          </a:prstGeom>
          <a:ln w="158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4287960" y="4462560"/>
            <a:ext cx="9475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Control</a:t>
            </a:r>
            <a:br>
              <a:rPr sz="1400"/>
            </a:br>
            <a:r>
              <a:rPr b="1" lang="en-US" sz="14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system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6629400" y="6172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Figure 8.9A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</a:rPr>
              <a:t>Traits of cancer cell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1. Independent of GROW signal from other cells often, they simply divide independently and very fas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Georgia"/>
              </a:rPr>
              <a:t>Caused by oncogen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2.  Ignores STOP signal causing defective damage control, so problems not corrected. 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Georgia"/>
              </a:rPr>
              <a:t>Mutation in tumor suppressor genes.  Ex. </a:t>
            </a:r>
            <a:r>
              <a:rPr b="0" i="1" lang="en-US" sz="2000" spc="-1" strike="noStrike">
                <a:solidFill>
                  <a:srgbClr val="2f2b20"/>
                </a:solidFill>
                <a:latin typeface="Georgia"/>
              </a:rPr>
              <a:t>p53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</a:rPr>
              <a:t>Traits of cancer cells, continue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3.  No cell suicide (apoptosis)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If this occurs, treatments which damage dividing cells may not work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4.  No limit to cell divisions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</a:rPr>
              <a:t>Traits of cancer cells, continue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5.  Angiogenesis - formation of blood vess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Georgia"/>
              </a:rPr>
              <a:t>Allows for necessary nutrients to be supplied to the growing tum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6.  Metastasis - ability to move to other tissues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Georgia"/>
              </a:rPr>
              <a:t>benign: do not move from tumor site</a:t>
            </a:r>
            <a:r>
              <a:rPr b="0" lang="en-US" sz="20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Georgia"/>
              </a:rPr>
              <a:t>malignant: invasive cells, can travel in blood and lymph system and cause cancer in other parts of the bod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</a:rPr>
              <a:t>Types Of Cancer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Classification of cance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Carcinomas- cancer in epithelial tissue, (ie. skin or lining or organ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Sarcomas- more rare form of cancer that arises in the bone, fat or muscl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Lymphomas- cancer in your lymph nodes and white blood cells, ie immune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Leukemias- cancer in bone marrow, blood forming tissue, which results in abnormal white blood cells (leukocytes)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CELL CYCL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838080" y="182880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lick here:  </a:t>
            </a:r>
            <a:r>
              <a:rPr b="0" lang="en-US" sz="4000" spc="-1" strike="noStrike" u="sng">
                <a:solidFill>
                  <a:srgbClr val="d25814"/>
                </a:solidFill>
                <a:uFillTx/>
                <a:latin typeface="Times New Roman"/>
                <a:ea typeface="ＭＳ Ｐゴシック"/>
                <a:hlinkClick r:id="rId1"/>
              </a:rPr>
              <a:t>cells alive cell cycle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71" name="Picture 4" descr="mitosis diagrammmmmm"/>
          <p:cNvPicPr/>
          <p:nvPr/>
        </p:nvPicPr>
        <p:blipFill>
          <a:blip r:embed="rId2"/>
          <a:stretch/>
        </p:blipFill>
        <p:spPr>
          <a:xfrm>
            <a:off x="762120" y="2819520"/>
            <a:ext cx="3136680" cy="358128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5"/>
          <p:cNvSpPr/>
          <p:nvPr/>
        </p:nvSpPr>
        <p:spPr>
          <a:xfrm>
            <a:off x="4952880" y="3048120"/>
            <a:ext cx="3962520" cy="2514600"/>
          </a:xfrm>
          <a:prstGeom prst="cloudCallout">
            <a:avLst>
              <a:gd name="adj1" fmla="val -58773"/>
              <a:gd name="adj2" fmla="val 63953"/>
            </a:avLst>
          </a:prstGeom>
          <a:noFill/>
          <a:ln w="12708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49a0a"/>
                </a:solidFill>
                <a:latin typeface="Times New Roman"/>
                <a:ea typeface="ＭＳ Ｐゴシック"/>
              </a:rPr>
              <a:t>The cell cycle makes 2 cells that are exactly the same!!!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75e47"/>
                </a:solidFill>
                <a:latin typeface="Times New Roman"/>
              </a:rPr>
              <a:t>Benign or malignant?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Benign tumours</a:t>
            </a: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 do not spread from their site of origin, but can crowd out (squash) surrounding cells eg brain tumour, warts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Malignant tumours</a:t>
            </a: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 can spread from the original site and cause </a:t>
            </a:r>
            <a:r>
              <a:rPr b="0" lang="en-GB" sz="2800" spc="-1" strike="noStrike" u="sng">
                <a:solidFill>
                  <a:srgbClr val="2f2b20"/>
                </a:solidFill>
                <a:uFillTx/>
                <a:latin typeface="Times New Roman"/>
              </a:rPr>
              <a:t>secondary tumours</a:t>
            </a: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07680" indent="-217080">
              <a:lnSpc>
                <a:spcPct val="80000"/>
              </a:lnSpc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f2b20"/>
                </a:solidFill>
                <a:latin typeface="Times New Roman"/>
              </a:rPr>
              <a:t>This is called </a:t>
            </a:r>
            <a:r>
              <a:rPr b="0" lang="en-GB" sz="2600" spc="-1" strike="noStrike" u="sng">
                <a:solidFill>
                  <a:srgbClr val="2f2b20"/>
                </a:solidFill>
                <a:uFillTx/>
                <a:latin typeface="Times New Roman"/>
              </a:rPr>
              <a:t>metastasis</a:t>
            </a:r>
            <a:r>
              <a:rPr b="0" lang="en-GB" sz="2600" spc="-1" strike="noStrike">
                <a:solidFill>
                  <a:srgbClr val="2f2b20"/>
                </a:solidFill>
                <a:latin typeface="Times New Roman"/>
              </a:rPr>
              <a:t>. They interfere with neighbouring cells and can block blood vessels, the gut, glands, lungs etc.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Why are secondary tumours so bad?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07680" indent="-217080">
              <a:lnSpc>
                <a:spcPct val="80000"/>
              </a:lnSpc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f2b20"/>
                </a:solidFill>
                <a:latin typeface="Times New Roman"/>
              </a:rPr>
              <a:t>Both types of tumour can tire the body out as they both need a huge amount of nutrients to sustain the rapid growth and division of the cells.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Cancer Cell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1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b20"/>
                </a:solidFill>
                <a:latin typeface="Calibri"/>
              </a:rPr>
              <a:t>______________ damage DNA to cause canc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10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10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Radiation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10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Virus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10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Chemicals in the environment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10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Cigarette smoke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585720" y="1087560"/>
            <a:ext cx="3571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849a0a"/>
                </a:solidFill>
                <a:latin typeface="Times New Roman"/>
                <a:ea typeface="ＭＳ Ｐゴシック"/>
              </a:rPr>
              <a:t>Carcinogens</a:t>
            </a:r>
            <a:endParaRPr b="0" lang="en-US" sz="50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51" name="Picture 5" descr="Sunburn2-main_Full"/>
          <p:cNvPicPr/>
          <p:nvPr/>
        </p:nvPicPr>
        <p:blipFill>
          <a:blip r:embed="rId1"/>
          <a:stretch/>
        </p:blipFill>
        <p:spPr>
          <a:xfrm>
            <a:off x="6786720" y="1828800"/>
            <a:ext cx="2357280" cy="26668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x_ray"/>
          <p:cNvPicPr/>
          <p:nvPr/>
        </p:nvPicPr>
        <p:blipFill>
          <a:blip r:embed="rId2"/>
          <a:stretch/>
        </p:blipFill>
        <p:spPr>
          <a:xfrm>
            <a:off x="4648320" y="1905120"/>
            <a:ext cx="202068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75e47"/>
                </a:solidFill>
                <a:latin typeface="Times New Roman"/>
              </a:rPr>
              <a:t>Carcinogens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Radiation</a:t>
            </a: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 – X Rays, UV ligh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hemicals</a:t>
            </a: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 – tar from cigaret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irus infection</a:t>
            </a: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 – papilloma virus can be responsible for cervical cancer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ereditary predisposition</a:t>
            </a: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 – Some families are </a:t>
            </a:r>
            <a:r>
              <a:rPr b="0" lang="en-GB" sz="2800" spc="-1" strike="noStrike" u="sng">
                <a:solidFill>
                  <a:srgbClr val="2f2b20"/>
                </a:solidFill>
                <a:uFillTx/>
                <a:latin typeface="Times New Roman"/>
              </a:rPr>
              <a:t>more susceptible</a:t>
            </a: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 to getting certain cancers. Remember </a:t>
            </a:r>
            <a:r>
              <a:rPr b="0" i="1" lang="en-GB" sz="2800" spc="-1" strike="noStrike" u="sng">
                <a:solidFill>
                  <a:srgbClr val="2f2b20"/>
                </a:solidFill>
                <a:uFillTx/>
                <a:latin typeface="Times New Roman"/>
              </a:rPr>
              <a:t>you can’t inherit cancer</a:t>
            </a: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 its just that you maybe more susceptible to getting it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984240" y="1128600"/>
            <a:ext cx="7174080" cy="4599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7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2157480" y="782640"/>
            <a:ext cx="4827600" cy="581184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</a:rPr>
              <a:t>Factors Believed to Contribute to Global Causes of Cance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Figure 16.2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4"/>
          <p:cNvSpPr/>
          <p:nvPr/>
        </p:nvSpPr>
        <p:spPr>
          <a:xfrm>
            <a:off x="1091160" y="1486080"/>
            <a:ext cx="9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0" name="Picture 3" descr="virginPPslide_0002_Vector-Smart-Object.png"/>
          <p:cNvPicPr/>
          <p:nvPr/>
        </p:nvPicPr>
        <p:blipFill>
          <a:blip r:embed="rId1"/>
          <a:stretch/>
        </p:blipFill>
        <p:spPr>
          <a:xfrm>
            <a:off x="152280" y="5867280"/>
            <a:ext cx="2041560" cy="793800"/>
          </a:xfrm>
          <a:prstGeom prst="rect">
            <a:avLst/>
          </a:prstGeom>
          <a:ln w="0">
            <a:noFill/>
          </a:ln>
        </p:spPr>
      </p:pic>
      <p:sp>
        <p:nvSpPr>
          <p:cNvPr id="461" name="TextBox 6"/>
          <p:cNvSpPr/>
          <p:nvPr/>
        </p:nvSpPr>
        <p:spPr>
          <a:xfrm>
            <a:off x="685800" y="228600"/>
            <a:ext cx="69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WHICH CAUSES OF CANCER CAN YOU CONTROL?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1135080" y="1635120"/>
            <a:ext cx="6873840" cy="4257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smoking8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30240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3"/>
          <p:cNvSpPr/>
          <p:nvPr/>
        </p:nvSpPr>
        <p:spPr>
          <a:xfrm>
            <a:off x="0" y="41148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Smoking leads to cancer.</a:t>
            </a:r>
            <a:endParaRPr b="0" lang="en-US" sz="8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Times New Roman"/>
                <a:ea typeface="MS PGothic"/>
              </a:rPr>
              <a:t>Organ-Specific Carcinogens in Tobacco Smoke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0" y="1295280"/>
          <a:ext cx="9144000" cy="5562720"/>
        </p:xfrm>
        <a:graphic>
          <a:graphicData uri="http://schemas.openxmlformats.org/drawingml/2006/table">
            <a:tbl>
              <a:tblPr/>
              <a:tblGrid>
                <a:gridCol w="2214720"/>
                <a:gridCol w="6929280"/>
              </a:tblGrid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Organ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Carcinogen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Lung, larynx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Polycyclic aromatic hydrocarbons 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[4-(Methylnitrosoamino)-1-(3-pyridyl)-1-butanone (NNK)], Polonium 210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Esophagu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-Nitrosonornicotine (NNN)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Pancrea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NNK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Bladde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4-Aminobiphenyl, 2 naphthylamine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105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Oral cavity (smoking)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Polycyclic aromatic hydrocarbons, NNK, NNN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Oral cavity (snuff)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NNK, NNN, Polonium 210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04560" y="304920"/>
            <a:ext cx="83818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MS PGothic"/>
              </a:rPr>
              <a:t>Cancer cell may divide </a:t>
            </a:r>
            <a:r>
              <a:rPr b="0" lang="en-US" sz="2200" spc="-1" strike="noStrike" u="sng">
                <a:solidFill>
                  <a:srgbClr val="2f2b20"/>
                </a:solidFill>
                <a:uFillTx/>
                <a:latin typeface="Times New Roman"/>
                <a:ea typeface="MS PGothic"/>
              </a:rPr>
              <a:t>indefinitely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MS PGothic"/>
              </a:rPr>
              <a:t> if they have a continual supply of nutrient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  <a:ea typeface="MS PGothic"/>
              </a:rPr>
              <a:t>*In contrast, nearly all mammalian cells divide 20 to 50 times under culture conditions before they stop, age, and die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9a0a"/>
                </a:solidFill>
                <a:latin typeface="Times New Roman"/>
                <a:ea typeface="MS PGothic"/>
              </a:rPr>
              <a:t>Did you know…?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MS PGothic"/>
              </a:rPr>
              <a:t>Cancer cells may be “</a:t>
            </a:r>
            <a:r>
              <a:rPr b="0" lang="en-US" sz="3600" spc="-1" strike="noStrike" u="sng">
                <a:solidFill>
                  <a:srgbClr val="2f2b20"/>
                </a:solidFill>
                <a:uFillTx/>
                <a:latin typeface="Times New Roman"/>
                <a:ea typeface="MS PGothic"/>
              </a:rPr>
              <a:t>immortal</a:t>
            </a: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MS PGothic"/>
              </a:rPr>
              <a:t>”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2" marL="1085760" indent="-22860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imes New Roman"/>
                <a:ea typeface="MS PGothic"/>
              </a:rPr>
              <a:t>Cells from a tumor removed from a woman (Henrietta Lacks) in 1951 are still reproducing in culture!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Cancer_cell,%20brain"/>
          <p:cNvPicPr/>
          <p:nvPr/>
        </p:nvPicPr>
        <p:blipFill>
          <a:blip r:embed="rId1"/>
          <a:stretch/>
        </p:blipFill>
        <p:spPr>
          <a:xfrm>
            <a:off x="0" y="0"/>
            <a:ext cx="4762440" cy="3753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oralCancer"/>
          <p:cNvPicPr/>
          <p:nvPr/>
        </p:nvPicPr>
        <p:blipFill>
          <a:blip r:embed="rId2"/>
          <a:stretch/>
        </p:blipFill>
        <p:spPr>
          <a:xfrm>
            <a:off x="5257800" y="0"/>
            <a:ext cx="3228840" cy="31813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MM-005"/>
          <p:cNvPicPr/>
          <p:nvPr/>
        </p:nvPicPr>
        <p:blipFill>
          <a:blip r:embed="rId3"/>
          <a:stretch/>
        </p:blipFill>
        <p:spPr>
          <a:xfrm>
            <a:off x="914400" y="3962520"/>
            <a:ext cx="3427560" cy="25938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BreastCancerCell"/>
          <p:cNvPicPr/>
          <p:nvPr/>
        </p:nvPicPr>
        <p:blipFill>
          <a:blip r:embed="rId4"/>
          <a:stretch/>
        </p:blipFill>
        <p:spPr>
          <a:xfrm>
            <a:off x="5021280" y="3560760"/>
            <a:ext cx="4122720" cy="329724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6"/>
          <p:cNvSpPr/>
          <p:nvPr/>
        </p:nvSpPr>
        <p:spPr>
          <a:xfrm>
            <a:off x="380880" y="3200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rain cancer cells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486400" y="2514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ＭＳ Ｐゴシック"/>
              </a:rPr>
              <a:t>Oral cancer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74" name="Picture 8" descr="BreastCancerCell"/>
          <p:cNvPicPr/>
          <p:nvPr/>
        </p:nvPicPr>
        <p:blipFill>
          <a:blip r:embed="rId5"/>
          <a:stretch/>
        </p:blipFill>
        <p:spPr>
          <a:xfrm>
            <a:off x="5021280" y="3560760"/>
            <a:ext cx="4122720" cy="32972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9"/>
          <p:cNvSpPr/>
          <p:nvPr/>
        </p:nvSpPr>
        <p:spPr>
          <a:xfrm>
            <a:off x="1219320" y="59436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kin cancer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257800" y="6216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reast cancer cell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75e47"/>
                </a:solidFill>
                <a:latin typeface="Times New Roman"/>
                <a:ea typeface="MS PGothic"/>
              </a:rPr>
              <a:t>5 Phases of the Cell Cycle</a:t>
            </a:r>
            <a:endParaRPr b="0" lang="en-US" sz="5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1143000"/>
            <a:ext cx="2895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nterpha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pha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etapha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napha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elopha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5" name="Line 5"/>
          <p:cNvSpPr/>
          <p:nvPr/>
        </p:nvSpPr>
        <p:spPr>
          <a:xfrm flipH="1" flipV="1">
            <a:off x="2286000" y="2438280"/>
            <a:ext cx="1371600" cy="457200"/>
          </a:xfrm>
          <a:prstGeom prst="line">
            <a:avLst/>
          </a:prstGeom>
          <a:ln w="93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 flipH="1">
            <a:off x="2362320" y="2895480"/>
            <a:ext cx="1295280" cy="1067040"/>
          </a:xfrm>
          <a:prstGeom prst="line">
            <a:avLst/>
          </a:prstGeom>
          <a:ln w="93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77" name="Line 7"/>
          <p:cNvSpPr/>
          <p:nvPr/>
        </p:nvSpPr>
        <p:spPr>
          <a:xfrm flipH="1">
            <a:off x="2437920" y="2895480"/>
            <a:ext cx="1143000" cy="76320"/>
          </a:xfrm>
          <a:prstGeom prst="line">
            <a:avLst/>
          </a:prstGeom>
          <a:ln w="93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78" name="Line 8"/>
          <p:cNvSpPr/>
          <p:nvPr/>
        </p:nvSpPr>
        <p:spPr>
          <a:xfrm flipH="1">
            <a:off x="2362320" y="2895480"/>
            <a:ext cx="1295280" cy="533520"/>
          </a:xfrm>
          <a:prstGeom prst="line">
            <a:avLst/>
          </a:prstGeom>
          <a:ln w="93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3595680" y="26384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Mitosis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80" name="Picture 16" descr="Mitosis"/>
          <p:cNvPicPr/>
          <p:nvPr/>
        </p:nvPicPr>
        <p:blipFill>
          <a:blip r:embed="rId1"/>
          <a:srcRect l="0" t="446" r="0" b="0"/>
          <a:stretch/>
        </p:blipFill>
        <p:spPr>
          <a:xfrm>
            <a:off x="5834160" y="1371600"/>
            <a:ext cx="3309840" cy="4876920"/>
          </a:xfrm>
          <a:prstGeom prst="rect">
            <a:avLst/>
          </a:prstGeom>
          <a:ln w="0">
            <a:noFill/>
          </a:ln>
        </p:spPr>
      </p:pic>
      <p:sp>
        <p:nvSpPr>
          <p:cNvPr id="281" name="Line 17"/>
          <p:cNvSpPr/>
          <p:nvPr/>
        </p:nvSpPr>
        <p:spPr>
          <a:xfrm flipV="1">
            <a:off x="4648320" y="2209680"/>
            <a:ext cx="1143000" cy="666720"/>
          </a:xfrm>
          <a:prstGeom prst="line">
            <a:avLst/>
          </a:prstGeom>
          <a:ln w="93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82" name="Line 18"/>
          <p:cNvSpPr/>
          <p:nvPr/>
        </p:nvSpPr>
        <p:spPr>
          <a:xfrm>
            <a:off x="4648320" y="2876400"/>
            <a:ext cx="1143000" cy="2590920"/>
          </a:xfrm>
          <a:prstGeom prst="line">
            <a:avLst/>
          </a:prstGeom>
          <a:ln w="93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83" name="Line 19"/>
          <p:cNvSpPr/>
          <p:nvPr/>
        </p:nvSpPr>
        <p:spPr>
          <a:xfrm>
            <a:off x="4648320" y="2876400"/>
            <a:ext cx="1066680" cy="76320"/>
          </a:xfrm>
          <a:prstGeom prst="line">
            <a:avLst/>
          </a:prstGeom>
          <a:ln w="93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84" name="Line 20"/>
          <p:cNvSpPr/>
          <p:nvPr/>
        </p:nvSpPr>
        <p:spPr>
          <a:xfrm>
            <a:off x="4648320" y="2876400"/>
            <a:ext cx="1143000" cy="1219320"/>
          </a:xfrm>
          <a:prstGeom prst="line">
            <a:avLst/>
          </a:prstGeom>
          <a:ln w="93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Anim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646520" y="1981080"/>
            <a:ext cx="3811680" cy="4114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29" descr="mitosis2d anim"/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514240" y="75960"/>
            <a:ext cx="42670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IN</a:t>
            </a: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TERPHASE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228600" y="762120"/>
            <a:ext cx="8915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In between</a:t>
            </a:r>
            <a:r>
              <a:rPr b="0" lang="en-US" sz="3000" spc="-1" strike="noStrike">
                <a:solidFill>
                  <a:srgbClr val="2f2b20"/>
                </a:solidFill>
                <a:latin typeface="Times New Roman"/>
              </a:rPr>
              <a:t> divisions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2b20"/>
                </a:solidFill>
                <a:latin typeface="Times New Roman"/>
              </a:rPr>
              <a:t>Cells are in this phase most of the time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2b20"/>
                </a:solidFill>
                <a:latin typeface="Times New Roman"/>
              </a:rPr>
              <a:t>See nucleus because DNA is spread out as </a:t>
            </a:r>
            <a:r>
              <a:rPr b="0" lang="en-US" sz="3000" spc="-1" strike="noStrike" u="sng">
                <a:solidFill>
                  <a:srgbClr val="2f2b20"/>
                </a:solidFill>
                <a:uFillTx/>
                <a:latin typeface="Times New Roman"/>
              </a:rPr>
              <a:t>chromatin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2b20"/>
                </a:solidFill>
                <a:latin typeface="Times New Roman"/>
                <a:ea typeface="MS PGothic"/>
              </a:rPr>
              <a:t>Can’t see individual chromosomes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91" name="Picture 5" descr="inter"/>
          <p:cNvPicPr/>
          <p:nvPr/>
        </p:nvPicPr>
        <p:blipFill>
          <a:blip r:embed="rId1"/>
          <a:stretch/>
        </p:blipFill>
        <p:spPr>
          <a:xfrm>
            <a:off x="4495680" y="3733920"/>
            <a:ext cx="4267440" cy="29764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3" descr=""/>
          <p:cNvPicPr/>
          <p:nvPr/>
        </p:nvPicPr>
        <p:blipFill>
          <a:blip r:embed="rId2"/>
          <a:srcRect l="0" t="37002" r="66030" b="4407"/>
          <a:stretch/>
        </p:blipFill>
        <p:spPr>
          <a:xfrm>
            <a:off x="533520" y="3809880"/>
            <a:ext cx="3081240" cy="281952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  <p:sp>
        <p:nvSpPr>
          <p:cNvPr id="293" name="Rectangle 14"/>
          <p:cNvSpPr/>
          <p:nvPr/>
        </p:nvSpPr>
        <p:spPr>
          <a:xfrm>
            <a:off x="3276720" y="502920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3886200" y="49528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3886200" y="5257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3276720" y="5105520"/>
            <a:ext cx="3045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Interpha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1981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re are three stages of interphas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1: Cell growth, Organelles doubl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: DNA replicated and chromosomes duplicat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2: preparation for mitosis, proteins synthesiz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299" name="Picture 4" descr="Mitosis_interphase2_1000x"/>
          <p:cNvPicPr/>
          <p:nvPr/>
        </p:nvPicPr>
        <p:blipFill>
          <a:blip r:embed="rId1"/>
          <a:stretch/>
        </p:blipFill>
        <p:spPr>
          <a:xfrm>
            <a:off x="152280" y="45720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"/>
          <p:cNvPicPr/>
          <p:nvPr/>
        </p:nvPicPr>
        <p:blipFill>
          <a:blip r:embed="rId2"/>
          <a:stretch/>
        </p:blipFill>
        <p:spPr>
          <a:xfrm>
            <a:off x="5791320" y="4419720"/>
            <a:ext cx="2133360" cy="2119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743200" y="5335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PRO</a:t>
            </a: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PHASE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80880" y="1219320"/>
            <a:ext cx="808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4000" spc="-1" strike="noStrike" baseline="30000">
                <a:solidFill>
                  <a:srgbClr val="ff0000"/>
                </a:solidFill>
                <a:latin typeface="Times New Roman"/>
                <a:ea typeface="ＭＳ Ｐゴシック"/>
              </a:rPr>
              <a:t>st</a:t>
            </a:r>
            <a:r>
              <a:rPr b="0" lang="en-US" sz="40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 dividing phase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DNA scrunches into </a:t>
            </a:r>
            <a:r>
              <a:rPr b="0" lang="en-US" sz="4000" spc="-1" strike="noStrike" u="sng">
                <a:solidFill>
                  <a:srgbClr val="2f2b20"/>
                </a:solidFill>
                <a:uFillTx/>
                <a:latin typeface="Times New Roman"/>
                <a:ea typeface="ＭＳ Ｐゴシック"/>
              </a:rPr>
              <a:t>chromosomes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Nuclear membrane disappears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2f2b20"/>
                </a:solidFill>
                <a:uFillTx/>
                <a:latin typeface="Times New Roman"/>
                <a:ea typeface="ＭＳ Ｐゴシック"/>
              </a:rPr>
              <a:t>Centrioles</a:t>
            </a:r>
            <a:r>
              <a:rPr b="0" lang="en-US" sz="40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 produce spindle fibers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066680" y="5319720"/>
            <a:ext cx="449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304" name="Picture 8" descr="prophase drawing"/>
          <p:cNvPicPr/>
          <p:nvPr/>
        </p:nvPicPr>
        <p:blipFill>
          <a:blip r:embed="rId1"/>
          <a:stretch/>
        </p:blipFill>
        <p:spPr>
          <a:xfrm>
            <a:off x="533520" y="3962520"/>
            <a:ext cx="3276360" cy="25146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819160" cy="2949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7T20:47:30Z</dcterms:created>
  <dc:creator>Zebulon Holsopple</dc:creator>
  <dc:description/>
  <cp:keywords/>
  <dc:language>en-US</dc:language>
  <cp:lastModifiedBy>Geneva Jost</cp:lastModifiedBy>
  <dcterms:modified xsi:type="dcterms:W3CDTF">2016-12-12T14:32:34Z</dcterms:modified>
  <cp:revision>196</cp:revision>
  <dc:subject>Biology Honors</dc:subject>
  <dc:title>1.2.2_Notes_MitosisAndCancer</dc:title>
</cp:coreProperties>
</file>